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2F5F-FF2D-4568-B6AA-7842810CD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02C9-7CFF-4B1F-BE9A-C1C1EC10C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6177-5B67-41D6-9F16-761D07E99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0CE1-73FB-4C30-9CCE-5808080E7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31F4-5AA7-4675-8A9F-9B27D726B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7DF7-AEB9-4E5A-927B-044607C4D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9F8E-10F7-4176-AC43-4E70182D4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AF69-475E-4D68-8238-2ABFC8B80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1881-6618-4D54-AA61-49D388AEE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9E58-FC6A-4460-BB00-7771301D8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3054-C67A-4369-83F9-E8A3B7E86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0FC0-EBBB-4272-A31D-EECBBD607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5675-C436-41BF-B598-2BFE1C72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C7F2-D18F-4E3D-891A-2C3827546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70C5-DB88-46E6-B9A6-B2C0CEE54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3A61-5F3C-4C46-8FC5-AD0CF911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FCCB-4E8E-4E31-8EDD-929790D1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53F2-906F-41E7-A8B5-153AC3A5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6BF8-616C-4FED-919D-76F955EC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BD3C-464E-4536-A906-BE9E714C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FAF8-6B5D-40B5-9BB7-8CD3BA10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422A-6BD7-4FA0-9A7F-B38C30F3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35EF-A4BD-4A21-96DB-71B66AD3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4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7F0A-D637-4294-B5F8-BE7A077E3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917UC2MZOGU&amp;feature=related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 OF TODAY’S ACTIV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: Buoya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After today’s activity, you will be abl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Use the concept of buoyancy to explain how magmas r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ces: Comparing Hot Air Balloon &amp; Magma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features of the hot air balloon and magma that ar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differ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In the table fill in the aspects that are different for the causes of rising as well as the factors impacting density and buoyancy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0" y="2666880"/>
          <a:ext cx="8991720" cy="3305160"/>
        </p:xfrm>
        <a:graphic>
          <a:graphicData uri="http://schemas.openxmlformats.org/drawingml/2006/table">
            <a:tbl>
              <a:tblPr/>
              <a:tblGrid>
                <a:gridCol w="3014640"/>
                <a:gridCol w="3013200"/>
                <a:gridCol w="2963880"/>
              </a:tblGrid>
              <a:tr h="560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Hot Air Ballo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ad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ad"/>
                      </a:solidFill>
                    </a:lnR>
                    <a:lnT w="5760">
                      <a:solidFill>
                        <a:srgbClr val="0000ad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Arial"/>
                        </a:rPr>
                        <a:t>Mag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1524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ad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ctors impacting density of balloon/mag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ad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ad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1220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ad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ctors impacting buoya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ad"/>
                      </a:solidFill>
                    </a:lnR>
                    <a:lnT w="5760">
                      <a:solidFill>
                        <a:srgbClr val="0000ad"/>
                      </a:solidFill>
                    </a:lnT>
                    <a:lnB w="5760">
                      <a:solidFill>
                        <a:srgbClr val="0000ad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ad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work &amp; Homework: Buoyanc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84" name="Rectangle 3" descr=""/>
          <p:cNvPicPr/>
          <p:nvPr/>
        </p:nvPicPr>
        <p:blipFill>
          <a:blip r:embed="rId1"/>
          <a:stretch/>
        </p:blipFill>
        <p:spPr>
          <a:xfrm>
            <a:off x="378000" y="1212840"/>
            <a:ext cx="85406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Gravitational energy, thermal energy and/or chemical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energy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 drive all movement and change of matter on Ear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2. A system is in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equilibrium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 when energy in the system is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5.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Temperature 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is a measure of the movement of molecules. Higher temperature means molecules are moving faster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6. When molecules move faster, the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density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 of most substances decreases.  Water is anomaly because liquid water is more dense than ic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7.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Buoyancy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 causes materials to rise or fall due to the relative density of material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Temperature and Dens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304920" y="121932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mperatu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s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mater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d"/>
                </a:solidFill>
                <a:latin typeface="Arial"/>
                <a:ea typeface="Arial"/>
              </a:rPr>
              <a:t>Q. How does increasing temperature cause decreasing dens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Increasing temperature causes molecules to move faster, spread out and for the density of decrea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5181480" y="633420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blank005.tripod.com/geology/graphic/tectonics/beaker.g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convectionbeaker.gif"/>
          <p:cNvPicPr/>
          <p:nvPr/>
        </p:nvPicPr>
        <p:blipFill>
          <a:blip r:embed="rId1"/>
          <a:stretch/>
        </p:blipFill>
        <p:spPr>
          <a:xfrm>
            <a:off x="5181480" y="990720"/>
            <a:ext cx="34038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ion: Buoyanc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e is a video of a Galileo Thermomet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youtube.com/watch?v=917UC2MZOGU&amp;feature=relat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bubbles of different colored material have different chemical properties that mean their density changes at different temperatures.  As a result, they are more or less buoyant at different temperatu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Buoyanc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Q. What is buoyanc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228600" y="58752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The force that is equal to the weight of the water the object displ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6324480" y="4572000"/>
            <a:ext cx="2819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misclab.umeoce.maine.edu/boss/classes/SMS_491_2003/buoyancy.g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buoyancy.gif"/>
          <p:cNvPicPr/>
          <p:nvPr/>
        </p:nvPicPr>
        <p:blipFill>
          <a:blip r:embed="rId1"/>
          <a:stretch/>
        </p:blipFill>
        <p:spPr>
          <a:xfrm>
            <a:off x="609480" y="1494000"/>
            <a:ext cx="518184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Buoyanc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Q. How does buoyancy make things float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533520" y="55627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The density of the object is compared to the density of the fluid it is immersed in.  If the object is less dense than the fluid, it will ris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7010280" y="449568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en.wikipedia.org/wiki/File:Buoyancy.sv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6" descr="500px-Buoyancy.png"/>
          <p:cNvPicPr/>
          <p:nvPr/>
        </p:nvPicPr>
        <p:blipFill>
          <a:blip r:embed="rId1"/>
          <a:stretch/>
        </p:blipFill>
        <p:spPr>
          <a:xfrm>
            <a:off x="2666880" y="1371600"/>
            <a:ext cx="33530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rce: Hot Air Balloo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63244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gas flame is used to heat the air inside the balloon.  The warm air in the balloon is less dense than the air outside the ballo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2165400"/>
          <a:ext cx="6934320" cy="4694040"/>
        </p:xfrm>
        <a:graphic>
          <a:graphicData uri="http://schemas.openxmlformats.org/drawingml/2006/table">
            <a:tbl>
              <a:tblPr/>
              <a:tblGrid>
                <a:gridCol w="3497400"/>
                <a:gridCol w="3436920"/>
              </a:tblGrid>
              <a:tr h="601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Hot Air Ballo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Arial"/>
                        </a:rPr>
                        <a:t>Princi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01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as fl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811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Differences in air inside and outside the ballo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58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Balloon ri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36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Balloon flo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85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Outside air heating up during the 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774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Amount of fuel available for the gas fl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  <p:sp>
        <p:nvSpPr>
          <p:cNvPr id="71" name="TextBox 5"/>
          <p:cNvSpPr/>
          <p:nvPr/>
        </p:nvSpPr>
        <p:spPr>
          <a:xfrm>
            <a:off x="7010280" y="304812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airpurifierreviews.info/wp-content/uploads/2010/09/hot-air-balloon-ride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hot-air-balloon-ride.jpg"/>
          <p:cNvPicPr/>
          <p:nvPr/>
        </p:nvPicPr>
        <p:blipFill>
          <a:blip r:embed="rId1"/>
          <a:stretch/>
        </p:blipFill>
        <p:spPr>
          <a:xfrm>
            <a:off x="6934320" y="0"/>
            <a:ext cx="22669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rget: Magma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60199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ses of hot magma rise through the lithosphere until they cool and solidify into igneous roc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0" y="2963880"/>
          <a:ext cx="9144000" cy="4033800"/>
        </p:xfrm>
        <a:graphic>
          <a:graphicData uri="http://schemas.openxmlformats.org/drawingml/2006/table">
            <a:tbl>
              <a:tblPr/>
              <a:tblGrid>
                <a:gridCol w="4610160"/>
                <a:gridCol w="4533840"/>
              </a:tblGrid>
              <a:tr h="456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Mag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Arial"/>
                        </a:rPr>
                        <a:t>Princi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10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Water added to hot rocks deep undergr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10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Differences in the cold lithosphere and the hot mag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464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Magma ri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53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Magma solidifies and stops ri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915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Difference between the magma and oceanic lithosphere versus continental lithosp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443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ases leaving the mag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  <p:sp>
        <p:nvSpPr>
          <p:cNvPr id="76" name="TextBox 5"/>
          <p:cNvSpPr/>
          <p:nvPr/>
        </p:nvSpPr>
        <p:spPr>
          <a:xfrm>
            <a:off x="6400800" y="24382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. by Scott Cl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Subduction diagram.jpg"/>
          <p:cNvPicPr/>
          <p:nvPr/>
        </p:nvPicPr>
        <p:blipFill>
          <a:blip r:embed="rId1"/>
          <a:stretch/>
        </p:blipFill>
        <p:spPr>
          <a:xfrm>
            <a:off x="6021360" y="533520"/>
            <a:ext cx="312264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ignment: Comparing Hot Air Balloon &amp; Magma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6320" y="1447920"/>
          <a:ext cx="8991360" cy="5333760"/>
        </p:xfrm>
        <a:graphic>
          <a:graphicData uri="http://schemas.openxmlformats.org/drawingml/2006/table">
            <a:tbl>
              <a:tblPr/>
              <a:tblGrid>
                <a:gridCol w="3014640"/>
                <a:gridCol w="3012840"/>
                <a:gridCol w="2963880"/>
              </a:tblGrid>
              <a:tr h="761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Hot Air Ballo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Arial"/>
                        </a:rPr>
                        <a:t>Mag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Princi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85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as fl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927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Differences in air inside and outside the ballo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72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Balloon ri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685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Balloon flo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762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Outside air heating up during the 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838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Amount of fuel available for the gas fl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5:36:25Z</dcterms:created>
  <dc:creator>Julie Libarkin</dc:creator>
  <dc:description/>
  <dc:language>en-US</dc:language>
  <cp:lastModifiedBy>Nicole LaDue</cp:lastModifiedBy>
  <dcterms:modified xsi:type="dcterms:W3CDTF">2011-01-13T19:49:43Z</dcterms:modified>
  <cp:revision>310</cp:revision>
  <dc:subject/>
  <dc:title>PowerPoint Presentation</dc:title>
</cp:coreProperties>
</file>